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183-666A-4404-8526-76A4F97A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1137-F330-4C25-9B0C-4114CD7B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16C-3419-4865-9D06-BA42DAAB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472-AD27-4555-A501-B41488C4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0F02-D055-4F97-BC3A-4A7F932F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EA2A-FF1F-42E0-AC78-5D183359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F36B-CF78-40A1-AD27-7F1F7500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E62B-9228-4D20-8A4B-6ECE6431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0E89-A4C1-4502-9493-28115E9E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4EBA-DAAB-48E5-BEC1-2A6AA3ED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70B6-85C0-4FB4-A503-6A68968E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94A-E4C8-45A6-8D13-104E2881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ED00-9267-4D32-A602-FC8C39D8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DE25-3ADD-49B1-AF12-D00AD2FE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C07D-E310-403E-877D-2D3D8270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AD8E-27D3-4B92-9DAB-C5553E26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FDA1-64D8-4365-992A-1DB658B5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B84-209E-4925-B7AE-5594F6E7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BDE-CD2D-429D-9D23-F9651F32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FC7D-83AB-4893-9FDE-B8AE8E56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08C9-190D-4D4B-9F8D-79AAB778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20F-0D3D-4281-9034-D2BEAD97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728-310D-4A15-9B40-727CF390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047-6D12-42E4-94E0-77954355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7D40-E793-4339-AE86-E36088AD65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52AE-EF4A-481F-A0F9-87CD03ECE2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сберечь свое здоровь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иды кровотечен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пиллярноетемно-красный цвет крови, истекание крови небольшой струйкой,  редко угрожает жизни и здоровью пострадавшего человека прекращается самостоятельно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териальное- пульсирующее струйное истечение крови из раны, цвет крови имеет ярко-алый оттенок. Опасенн для жизни пострадавшего, т.к. стремительно приводит к наступлению полного обескровливания организма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нозное-медленное, но непрерывное истекание крови из раны. Кровь имеет темно-красный цве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&amp;Vcy;&amp;icy;&amp;dcy;&amp;ycy; &amp;kcy;&amp;rcy;&amp;ocy;&amp;vcy;&amp;ocy;&amp;tcy;&amp;iecy;&amp;chcy;&amp;iecy;&amp;ncy;&amp;icy;&amp;jcy;"/>
          <p:cNvPicPr/>
          <p:nvPr/>
        </p:nvPicPr>
        <p:blipFill>
          <a:blip r:embed="rId1"/>
          <a:stretch/>
        </p:blipFill>
        <p:spPr>
          <a:xfrm>
            <a:off x="6516720" y="189000"/>
            <a:ext cx="22860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ры оказания первой помощи при кровотечения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 венозном кровотечении значительной сил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еобходимо срочно пережать поврежденный сосуд с помощью любого подручного средства (можно даже при помощи пальца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случае артериального кровотече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ложить жгут( не более чем на 2 час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 всех видах кровотече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авящая стерильная повязка, холо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&amp;Pcy;&amp;iecy;&amp;rcy;&amp;vcy;&amp;acy;&amp;yacy; &amp;pcy;&amp;ocy;&amp;mcy;&amp;ocy;&amp;shchcy;&amp;softcy; &amp;pcy;&amp;rcy;&amp;icy; &amp;kcy;&amp;rcy;&amp;ocy;&amp;vcy;&amp;ocy;&amp;tcy;&amp;iecy;&amp;chcy;&amp;iecy;&amp;ncy;&amp;icy;&amp;icy;"/>
          <p:cNvPicPr/>
          <p:nvPr/>
        </p:nvPicPr>
        <p:blipFill>
          <a:blip r:embed="rId1"/>
          <a:stretch/>
        </p:blipFill>
        <p:spPr>
          <a:xfrm>
            <a:off x="6372360" y="3500280"/>
            <a:ext cx="2286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епловой и солнечный уда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Легкая степень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ая слабост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ловная бол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шнот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ащения пульса и дых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ширение зрачк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Меры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ынести из зоны перегревания, оказать помощь (см. раздел "Доврачебная помощь")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 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       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Тяжелая форм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теплового удара развивается внезапно. Лицо краснеет, позже бледно-цианотичное, потеря сознания, повышение температура тела до 41 - 42 С, случаи внезапной смерти. Летальность 20 - 30%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 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 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Признаки теплового и солнечного ударо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оловокружени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оловная боль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чащенное сердцебиени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ошнота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холодный пот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раснение кожных покровов лица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падок си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СРОЧНО!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Устранить тепловое воздейств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далить пострадавшего из зоны перегре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ложить на открытой площадке в тен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дыхание паров нашатырного спирта с ват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свободить от верхней одежд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мачивание лица холодной водой, похлопывание по груди мокрым полотенце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ложить на голову пузырь с холодной водо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астое опахив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звать бригаду скорой помощ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2266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022160" y="292428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врачебная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6320" y="476280"/>
            <a:ext cx="4990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Доврачебная помощ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     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ервая помощь при обморожен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знаки и симптомы обморож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теря чувствительност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щущение покалывания или пощипыва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беление кож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1 степень обморож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олдыр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2 степень обморожения (видно только после отогревания, возможно проявление через 6-12 часов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темнение и отмир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3 степень обморожения (видно только после отогревания, возможно проявление через 6-12 часов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его НЕ делать при обморожен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&amp;Ocy;&amp;bcy;&amp;mcy;&amp;ocy;&amp;rcy;&amp;ocy;&amp;zhcy;&amp;iecy;&amp;ncy;&amp;icy;&amp;iecy; &amp;khcy;&amp;ocy;&amp;lcy;&amp;ocy;&amp;dcy;"/>
          <p:cNvPicPr/>
          <p:nvPr/>
        </p:nvPicPr>
        <p:blipFill>
          <a:blip r:embed="rId1"/>
          <a:stretch/>
        </p:blipFill>
        <p:spPr>
          <a:xfrm>
            <a:off x="7236000" y="260280"/>
            <a:ext cx="148572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&amp;Pcy;&amp;iecy;&amp;rcy;&amp;vcy;&amp;acy;&amp;yacy; &amp;pcy;&amp;ocy;&amp;mcy;&amp;ocy;&amp;shchcy;&amp;softcy; &amp;pcy;&amp;rcy;&amp;icy; &amp;ocy;&amp;scy;&amp;tcy;&amp;rcy;&amp;ocy;&amp;jcy; &amp;bcy;&amp;ocy;&amp;lcy;&amp;icy; &amp;vcy; &amp;ocy;&amp;bcy;&amp;lcy;&amp;acy;&amp;scy;&amp;tcy;&amp;icy; &amp;scy;&amp;iecy;&amp;rcy;&amp;dcy;&amp;tscy;&amp;acy;"/>
          <p:cNvPicPr/>
          <p:nvPr/>
        </p:nvPicPr>
        <p:blipFill>
          <a:blip r:embed="rId2"/>
          <a:stretch/>
        </p:blipFill>
        <p:spPr>
          <a:xfrm>
            <a:off x="0" y="4941720"/>
            <a:ext cx="2050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Первая помощь при обморожении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брат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с холода (на морозе растирать и греть бесполезно и опасно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закрыт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сухой повязкой (для уменьшения скорости отогревания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едленно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согревание в помещени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бильное тепло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и сладкое питье (согреваем изнутри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ельзя при обморожени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гнорирова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стирать (это приводит к омертвению кожи и появлению белых пятен на коже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гревать резк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ть спиртно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рав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ломы-это нарушение целостности кост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иды перелом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ыт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рыт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7020000" y="2421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03640" y="3068640"/>
            <a:ext cx="35150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ервая помощь при перелома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еспечение спокойного и наиболее удобного положения для поврежденной конечности, что достигается полной ее неподвижность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ложить холод (резиновый пузырь со льдом или холодной водой, холодные примочки и т.п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ложить шин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править в медицинское учрежд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09:26:04Z</dcterms:created>
  <dc:creator>user</dc:creator>
  <dc:description/>
  <dc:language>en-US</dc:language>
  <cp:lastModifiedBy>user</cp:lastModifiedBy>
  <dcterms:modified xsi:type="dcterms:W3CDTF">2013-04-23T07:40:51Z</dcterms:modified>
  <cp:revision>9</cp:revision>
  <dc:subject/>
  <dc:title>Как сберечь свое здоровье.</dc:title>
</cp:coreProperties>
</file>